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F0B4DE-E6D9-4342-99ED-AA46F3D8F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E173E7-993D-42F5-A03D-E721EB94B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1D0A9D-931C-49E2-9B9C-57345B92F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43AE40-C5F3-45FD-B5F9-9557AFE55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6C1F69-4A62-4448-8CEF-6502B2D05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6F258A-2DDA-42AD-879F-B4B4B1F6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2374C8-566E-4B6C-903E-7B3F6AA5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6606B7-96CD-4E00-81A5-48174DEE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5CF4F9-7119-440D-918A-2E16C5A2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127B88-9BA8-4D54-8724-5CFF26BCB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DCD4C6-BE5C-410B-ADF2-02BAD1D52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C70E3D-E1AF-464A-8F2F-03E10FB8C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33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4c2b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San Francis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867280" y="617220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AISC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CIS/2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1143000"/>
            <a:ext cx="3810240" cy="0"/>
          </a:xfrm>
          <a:prstGeom prst="line">
            <a:avLst/>
          </a:prstGeom>
          <a:ln w="76320">
            <a:solidFill>
              <a:srgbClr val="578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38080" y="5943600"/>
            <a:ext cx="1752840" cy="742680"/>
            <a:chOff x="838080" y="5943600"/>
            <a:chExt cx="1752840" cy="742680"/>
          </a:xfrm>
        </p:grpSpPr>
        <p:sp>
          <p:nvSpPr>
            <p:cNvPr id="7" name=""/>
            <p:cNvSpPr/>
            <p:nvPr/>
          </p:nvSpPr>
          <p:spPr>
            <a:xfrm>
              <a:off x="838080" y="636444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8080" y="636444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6680" y="636444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86680" y="636444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62200" y="5943600"/>
              <a:ext cx="43920" cy="551160"/>
            </a:xfrm>
            <a:custGeom>
              <a:avLst/>
              <a:gdLst/>
              <a:ahLst/>
              <a:rect l="l" t="t" r="r" b="b"/>
              <a:pathLst>
                <a:path w="54" h="534">
                  <a:moveTo>
                    <a:pt x="54" y="534"/>
                  </a:moveTo>
                  <a:lnTo>
                    <a:pt x="30" y="0"/>
                  </a:lnTo>
                  <a:lnTo>
                    <a:pt x="0" y="53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38080" y="6655320"/>
              <a:ext cx="92880" cy="3096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40240" y="6658560"/>
              <a:ext cx="8784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45720" y="6172560"/>
              <a:ext cx="151560" cy="167040"/>
            </a:xfrm>
            <a:custGeom>
              <a:avLst/>
              <a:gdLst/>
              <a:ahLst/>
              <a:rect l="l" t="t" r="r" b="b"/>
              <a:pathLst>
                <a:path w="186" h="162">
                  <a:moveTo>
                    <a:pt x="186" y="156"/>
                  </a:moveTo>
                  <a:lnTo>
                    <a:pt x="156" y="156"/>
                  </a:lnTo>
                  <a:lnTo>
                    <a:pt x="156" y="156"/>
                  </a:lnTo>
                  <a:lnTo>
                    <a:pt x="156" y="150"/>
                  </a:lnTo>
                  <a:lnTo>
                    <a:pt x="150" y="144"/>
                  </a:lnTo>
                  <a:lnTo>
                    <a:pt x="150" y="138"/>
                  </a:lnTo>
                  <a:lnTo>
                    <a:pt x="150" y="138"/>
                  </a:lnTo>
                  <a:lnTo>
                    <a:pt x="138" y="150"/>
                  </a:lnTo>
                  <a:lnTo>
                    <a:pt x="114" y="156"/>
                  </a:lnTo>
                  <a:lnTo>
                    <a:pt x="96" y="162"/>
                  </a:lnTo>
                  <a:lnTo>
                    <a:pt x="96" y="162"/>
                  </a:lnTo>
                  <a:lnTo>
                    <a:pt x="48" y="150"/>
                  </a:lnTo>
                  <a:lnTo>
                    <a:pt x="12" y="12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36"/>
                  </a:lnTo>
                  <a:lnTo>
                    <a:pt x="48" y="12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6"/>
                  </a:lnTo>
                  <a:lnTo>
                    <a:pt x="168" y="24"/>
                  </a:lnTo>
                  <a:lnTo>
                    <a:pt x="186" y="54"/>
                  </a:lnTo>
                  <a:lnTo>
                    <a:pt x="186" y="54"/>
                  </a:lnTo>
                  <a:lnTo>
                    <a:pt x="174" y="54"/>
                  </a:lnTo>
                  <a:lnTo>
                    <a:pt x="150" y="54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26" y="42"/>
                  </a:lnTo>
                  <a:lnTo>
                    <a:pt x="114" y="36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72" y="42"/>
                  </a:lnTo>
                  <a:lnTo>
                    <a:pt x="54" y="60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4" y="102"/>
                  </a:lnTo>
                  <a:lnTo>
                    <a:pt x="72" y="120"/>
                  </a:lnTo>
                  <a:lnTo>
                    <a:pt x="96" y="126"/>
                  </a:lnTo>
                  <a:lnTo>
                    <a:pt x="96" y="126"/>
                  </a:lnTo>
                  <a:lnTo>
                    <a:pt x="120" y="120"/>
                  </a:lnTo>
                  <a:lnTo>
                    <a:pt x="132" y="114"/>
                  </a:lnTo>
                  <a:lnTo>
                    <a:pt x="138" y="102"/>
                  </a:lnTo>
                  <a:lnTo>
                    <a:pt x="138" y="102"/>
                  </a:lnTo>
                  <a:lnTo>
                    <a:pt x="132" y="102"/>
                  </a:lnTo>
                  <a:lnTo>
                    <a:pt x="114" y="102"/>
                  </a:lnTo>
                  <a:lnTo>
                    <a:pt x="108" y="102"/>
                  </a:lnTo>
                  <a:lnTo>
                    <a:pt x="108" y="102"/>
                  </a:lnTo>
                  <a:lnTo>
                    <a:pt x="108" y="72"/>
                  </a:lnTo>
                  <a:lnTo>
                    <a:pt x="186" y="72"/>
                  </a:lnTo>
                  <a:lnTo>
                    <a:pt x="186" y="15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107360" y="621576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8" y="90"/>
                  </a:lnTo>
                  <a:lnTo>
                    <a:pt x="78" y="90"/>
                  </a:lnTo>
                  <a:lnTo>
                    <a:pt x="84" y="90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2" y="78"/>
                  </a:lnTo>
                  <a:lnTo>
                    <a:pt x="114" y="78"/>
                  </a:lnTo>
                  <a:lnTo>
                    <a:pt x="132" y="78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50" y="66"/>
                  </a:lnTo>
                  <a:lnTo>
                    <a:pt x="150" y="66"/>
                  </a:lnTo>
                  <a:lnTo>
                    <a:pt x="120" y="66"/>
                  </a:lnTo>
                  <a:lnTo>
                    <a:pt x="72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234440" y="621576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6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54" y="30"/>
                  </a:lnTo>
                  <a:lnTo>
                    <a:pt x="48" y="42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61880" y="6215760"/>
              <a:ext cx="78120" cy="117720"/>
            </a:xfrm>
            <a:custGeom>
              <a:avLst/>
              <a:gdLst/>
              <a:ahLst/>
              <a:rect l="l" t="t" r="r" b="b"/>
              <a:pathLst>
                <a:path w="96" h="114">
                  <a:moveTo>
                    <a:pt x="0" y="0"/>
                  </a:moveTo>
                  <a:lnTo>
                    <a:pt x="42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54" y="12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12"/>
                  </a:lnTo>
                  <a:lnTo>
                    <a:pt x="96" y="24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6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72"/>
                  </a:lnTo>
                  <a:lnTo>
                    <a:pt x="42" y="102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440000" y="6215760"/>
              <a:ext cx="117360" cy="16092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144" y="102"/>
                  </a:moveTo>
                  <a:lnTo>
                    <a:pt x="144" y="120"/>
                  </a:lnTo>
                  <a:lnTo>
                    <a:pt x="126" y="144"/>
                  </a:lnTo>
                  <a:lnTo>
                    <a:pt x="78" y="156"/>
                  </a:lnTo>
                  <a:lnTo>
                    <a:pt x="78" y="156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42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26"/>
                  </a:lnTo>
                  <a:lnTo>
                    <a:pt x="72" y="132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96" y="126"/>
                  </a:lnTo>
                  <a:lnTo>
                    <a:pt x="102" y="114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90" y="102"/>
                  </a:lnTo>
                  <a:lnTo>
                    <a:pt x="78" y="108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30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2" y="24"/>
                  </a:lnTo>
                  <a:lnTo>
                    <a:pt x="30" y="6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90" y="6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0"/>
                  </a:lnTo>
                  <a:lnTo>
                    <a:pt x="144" y="0"/>
                  </a:lnTo>
                  <a:lnTo>
                    <a:pt x="144" y="102"/>
                  </a:lnTo>
                  <a:close/>
                  <a:moveTo>
                    <a:pt x="72" y="24"/>
                  </a:moveTo>
                  <a:lnTo>
                    <a:pt x="60" y="30"/>
                  </a:lnTo>
                  <a:lnTo>
                    <a:pt x="48" y="42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66"/>
                  </a:lnTo>
                  <a:lnTo>
                    <a:pt x="60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90" y="78"/>
                  </a:lnTo>
                  <a:lnTo>
                    <a:pt x="102" y="66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102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72120" y="617256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616400" y="621576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6" y="36"/>
                  </a:moveTo>
                  <a:lnTo>
                    <a:pt x="12" y="24"/>
                  </a:lnTo>
                  <a:lnTo>
                    <a:pt x="18" y="12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42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2" y="0"/>
                  </a:lnTo>
                  <a:lnTo>
                    <a:pt x="126" y="12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48"/>
                  </a:lnTo>
                  <a:lnTo>
                    <a:pt x="138" y="72"/>
                  </a:lnTo>
                  <a:lnTo>
                    <a:pt x="138" y="84"/>
                  </a:lnTo>
                  <a:lnTo>
                    <a:pt x="138" y="84"/>
                  </a:lnTo>
                  <a:lnTo>
                    <a:pt x="138" y="96"/>
                  </a:lnTo>
                  <a:lnTo>
                    <a:pt x="138" y="102"/>
                  </a:lnTo>
                  <a:lnTo>
                    <a:pt x="144" y="114"/>
                  </a:lnTo>
                  <a:lnTo>
                    <a:pt x="144" y="114"/>
                  </a:lnTo>
                  <a:lnTo>
                    <a:pt x="132" y="114"/>
                  </a:lnTo>
                  <a:lnTo>
                    <a:pt x="108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08"/>
                  </a:lnTo>
                  <a:lnTo>
                    <a:pt x="96" y="108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84" y="114"/>
                  </a:lnTo>
                  <a:lnTo>
                    <a:pt x="66" y="114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24" y="114"/>
                  </a:lnTo>
                  <a:lnTo>
                    <a:pt x="6" y="10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8" y="60"/>
                  </a:lnTo>
                  <a:lnTo>
                    <a:pt x="48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90" y="42"/>
                  </a:lnTo>
                  <a:lnTo>
                    <a:pt x="96" y="42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30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36" y="36"/>
                  </a:lnTo>
                  <a:lnTo>
                    <a:pt x="18" y="36"/>
                  </a:lnTo>
                  <a:lnTo>
                    <a:pt x="6" y="36"/>
                  </a:lnTo>
                  <a:lnTo>
                    <a:pt x="6" y="36"/>
                  </a:lnTo>
                  <a:close/>
                  <a:moveTo>
                    <a:pt x="66" y="96"/>
                  </a:moveTo>
                  <a:lnTo>
                    <a:pt x="84" y="90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84" y="66"/>
                  </a:lnTo>
                  <a:lnTo>
                    <a:pt x="78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54" y="72"/>
                  </a:lnTo>
                  <a:lnTo>
                    <a:pt x="48" y="72"/>
                  </a:lnTo>
                  <a:lnTo>
                    <a:pt x="48" y="84"/>
                  </a:lnTo>
                  <a:lnTo>
                    <a:pt x="48" y="84"/>
                  </a:lnTo>
                  <a:lnTo>
                    <a:pt x="48" y="90"/>
                  </a:lnTo>
                  <a:lnTo>
                    <a:pt x="54" y="96"/>
                  </a:lnTo>
                  <a:lnTo>
                    <a:pt x="66" y="96"/>
                  </a:lnTo>
                  <a:lnTo>
                    <a:pt x="66" y="9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753560" y="6172560"/>
              <a:ext cx="38880" cy="1609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756080" y="6175440"/>
              <a:ext cx="3420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812240" y="621576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812240" y="621576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929960" y="621576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929960" y="621576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2280" y="618480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2280" y="618480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267640" y="621576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267640" y="621576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390040" y="618480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390040" y="618480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135520" y="617256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137680" y="6219000"/>
              <a:ext cx="34200" cy="1112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137680" y="6175440"/>
              <a:ext cx="3420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179440" y="618480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179440" y="618480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473560" y="621576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96" y="48"/>
                  </a:moveTo>
                  <a:lnTo>
                    <a:pt x="96" y="36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96" y="48"/>
                  </a:lnTo>
                  <a:lnTo>
                    <a:pt x="96" y="4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473560" y="621576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507760" y="6240600"/>
              <a:ext cx="43920" cy="244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4" y="24"/>
                  </a:moveTo>
                  <a:lnTo>
                    <a:pt x="54" y="12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8" y="24"/>
                  </a:lnTo>
                  <a:lnTo>
                    <a:pt x="42" y="24"/>
                  </a:lnTo>
                  <a:lnTo>
                    <a:pt x="54" y="24"/>
                  </a:lnTo>
                  <a:lnTo>
                    <a:pt x="54" y="2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04364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04364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077840" y="6432480"/>
              <a:ext cx="43920" cy="6192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61000" y="636444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161000" y="636444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58920" y="6364440"/>
              <a:ext cx="136800" cy="154440"/>
            </a:xfrm>
            <a:custGeom>
              <a:avLst/>
              <a:gdLst/>
              <a:ahLst/>
              <a:rect l="l" t="t" r="r" b="b"/>
              <a:pathLst>
                <a:path w="168" h="150">
                  <a:moveTo>
                    <a:pt x="168" y="30"/>
                  </a:moveTo>
                  <a:lnTo>
                    <a:pt x="108" y="30"/>
                  </a:lnTo>
                  <a:lnTo>
                    <a:pt x="108" y="150"/>
                  </a:lnTo>
                  <a:lnTo>
                    <a:pt x="60" y="150"/>
                  </a:lnTo>
                  <a:lnTo>
                    <a:pt x="60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61880" y="640188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72"/>
                  </a:moveTo>
                  <a:lnTo>
                    <a:pt x="48" y="84"/>
                  </a:lnTo>
                  <a:lnTo>
                    <a:pt x="60" y="90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84" y="96"/>
                  </a:lnTo>
                  <a:lnTo>
                    <a:pt x="96" y="90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14" y="84"/>
                  </a:lnTo>
                  <a:lnTo>
                    <a:pt x="132" y="84"/>
                  </a:lnTo>
                  <a:lnTo>
                    <a:pt x="144" y="84"/>
                  </a:lnTo>
                  <a:lnTo>
                    <a:pt x="144" y="84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8" y="120"/>
                  </a:lnTo>
                  <a:lnTo>
                    <a:pt x="78" y="120"/>
                  </a:lnTo>
                  <a:lnTo>
                    <a:pt x="36" y="114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12"/>
                  </a:lnTo>
                  <a:lnTo>
                    <a:pt x="138" y="36"/>
                  </a:lnTo>
                  <a:lnTo>
                    <a:pt x="150" y="72"/>
                  </a:lnTo>
                  <a:lnTo>
                    <a:pt x="150" y="72"/>
                  </a:lnTo>
                  <a:lnTo>
                    <a:pt x="120" y="72"/>
                  </a:lnTo>
                  <a:lnTo>
                    <a:pt x="72" y="72"/>
                  </a:lnTo>
                  <a:lnTo>
                    <a:pt x="42" y="72"/>
                  </a:lnTo>
                  <a:lnTo>
                    <a:pt x="42" y="72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30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48932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90" y="90"/>
                  </a:lnTo>
                  <a:lnTo>
                    <a:pt x="96" y="84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14" y="72"/>
                  </a:lnTo>
                  <a:lnTo>
                    <a:pt x="132" y="72"/>
                  </a:lnTo>
                  <a:lnTo>
                    <a:pt x="144" y="72"/>
                  </a:lnTo>
                  <a:lnTo>
                    <a:pt x="144" y="72"/>
                  </a:lnTo>
                  <a:lnTo>
                    <a:pt x="132" y="96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14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8" y="6"/>
                  </a:lnTo>
                  <a:lnTo>
                    <a:pt x="132" y="18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32" y="48"/>
                  </a:lnTo>
                  <a:lnTo>
                    <a:pt x="11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616400" y="63644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0" y="0"/>
                  </a:moveTo>
                  <a:lnTo>
                    <a:pt x="42" y="0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54" y="48"/>
                  </a:lnTo>
                  <a:lnTo>
                    <a:pt x="72" y="42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120" y="42"/>
                  </a:lnTo>
                  <a:lnTo>
                    <a:pt x="138" y="60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38" y="102"/>
                  </a:lnTo>
                  <a:lnTo>
                    <a:pt x="138" y="132"/>
                  </a:lnTo>
                  <a:lnTo>
                    <a:pt x="138" y="150"/>
                  </a:lnTo>
                  <a:lnTo>
                    <a:pt x="138" y="150"/>
                  </a:lnTo>
                  <a:lnTo>
                    <a:pt x="90" y="150"/>
                  </a:lnTo>
                  <a:lnTo>
                    <a:pt x="90" y="150"/>
                  </a:lnTo>
                  <a:lnTo>
                    <a:pt x="90" y="138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96"/>
                  </a:lnTo>
                  <a:lnTo>
                    <a:pt x="90" y="84"/>
                  </a:lnTo>
                  <a:lnTo>
                    <a:pt x="84" y="72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54" y="72"/>
                  </a:lnTo>
                  <a:lnTo>
                    <a:pt x="48" y="78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2" y="108"/>
                  </a:lnTo>
                  <a:lnTo>
                    <a:pt x="42" y="138"/>
                  </a:lnTo>
                  <a:lnTo>
                    <a:pt x="42" y="150"/>
                  </a:lnTo>
                  <a:lnTo>
                    <a:pt x="42" y="150"/>
                  </a:lnTo>
                  <a:lnTo>
                    <a:pt x="0" y="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48520" y="640188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748520" y="640188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87092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87092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05480" y="6432480"/>
              <a:ext cx="4860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98360" y="6364440"/>
              <a:ext cx="3888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000880" y="6367680"/>
              <a:ext cx="34200" cy="1483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04732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4732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81520" y="6432480"/>
              <a:ext cx="4896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74760" y="640188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  <a:close/>
                  <a:moveTo>
                    <a:pt x="72" y="30"/>
                  </a:moveTo>
                  <a:lnTo>
                    <a:pt x="54" y="30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66"/>
                  </a:lnTo>
                  <a:lnTo>
                    <a:pt x="54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84" y="78"/>
                  </a:lnTo>
                  <a:lnTo>
                    <a:pt x="96" y="72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30"/>
                  </a:lnTo>
                  <a:lnTo>
                    <a:pt x="72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74760" y="640188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08960" y="6432480"/>
              <a:ext cx="43920" cy="55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0" y="0"/>
                  </a:moveTo>
                  <a:lnTo>
                    <a:pt x="12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36"/>
                  </a:lnTo>
                  <a:lnTo>
                    <a:pt x="12" y="48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42" y="48"/>
                  </a:lnTo>
                  <a:lnTo>
                    <a:pt x="54" y="4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12"/>
                  </a:lnTo>
                  <a:lnTo>
                    <a:pt x="48" y="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97160" y="640764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297160" y="640764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F4202-7247-402F-B0F0-077AAA441F93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902960" y="304200"/>
            <a:ext cx="473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ahoma"/>
              </a:rPr>
              <a:t>Connection Flavor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23880" y="1564560"/>
            <a:ext cx="6477120" cy="23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MS Mincho"/>
              </a:rPr>
              <a:t>Chuck Eastman, driven by John Manua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333333"/>
                </a:solidFill>
                <a:latin typeface="Times New Roman"/>
                <a:ea typeface="MS Mincho"/>
              </a:rPr>
              <a:t>how to associate fabrication-level detail information to a connection, based on the practices of the fabricator and/or engineering fir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flavorslide1" descr=""/>
          <p:cNvPicPr/>
          <p:nvPr/>
        </p:nvPicPr>
        <p:blipFill>
          <a:blip r:embed="rId2"/>
          <a:stretch/>
        </p:blipFill>
        <p:spPr>
          <a:xfrm>
            <a:off x="1752480" y="1219320"/>
            <a:ext cx="5691240" cy="4762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19480" y="379800"/>
            <a:ext cx="739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Logical structure of a connection and its attribut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7480" y="510408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onnectedmember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5334120" y="4800240"/>
            <a:ext cx="2133360" cy="76212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45709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onnection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19320" y="4952880"/>
            <a:ext cx="457200" cy="38124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conectionflavorslide2" descr=""/>
          <p:cNvPicPr/>
          <p:nvPr/>
        </p:nvPicPr>
        <p:blipFill>
          <a:blip r:embed="rId2"/>
          <a:stretch/>
        </p:blipFill>
        <p:spPr>
          <a:xfrm>
            <a:off x="2133720" y="1905120"/>
            <a:ext cx="4332240" cy="45226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80880" y="2223720"/>
            <a:ext cx="199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Reference to the item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2590920"/>
            <a:ext cx="609480" cy="22860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2604600"/>
            <a:ext cx="199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Connection flavor library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477120" y="2971800"/>
            <a:ext cx="457200" cy="30492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82880" y="379800"/>
            <a:ext cx="68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Associating the connection to the flavor librar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86400" y="10663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Parent of assembly_design_ structural_connection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4952520" y="1371600"/>
            <a:ext cx="762120" cy="53352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37840" y="380160"/>
            <a:ext cx="77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Which Members Does a Connection Connect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0480" y="1980000"/>
            <a:ext cx="18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Joint loc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76520" y="2362320"/>
            <a:ext cx="586728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5019840" cy="28843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905120" y="2286000"/>
            <a:ext cx="457200" cy="83808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7009920" y="2438280"/>
            <a:ext cx="685800" cy="45720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20120" y="19036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Logical assembl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467480" y="373248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onnectedmember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7010280" y="3352320"/>
            <a:ext cx="533520" cy="76212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676520" y="1905120"/>
            <a:ext cx="586728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68" name="flavorslide3" descr=""/>
          <p:cNvPicPr/>
          <p:nvPr/>
        </p:nvPicPr>
        <p:blipFill>
          <a:blip r:embed="rId2"/>
          <a:stretch/>
        </p:blipFill>
        <p:spPr>
          <a:xfrm>
            <a:off x="1905120" y="2209680"/>
            <a:ext cx="5187960" cy="17398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286000" y="28195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2362320" y="2971800"/>
            <a:ext cx="380880" cy="175248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19320" y="464688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tructural member part specific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48320" y="476892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tructural member part instance loc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6705720" y="2742840"/>
            <a:ext cx="304560" cy="213372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7840" y="380160"/>
            <a:ext cx="77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Which Members Does a Connection Connect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13:40:57Z</dcterms:created>
  <dc:creator>Eastman</dc:creator>
  <dc:description/>
  <dc:language>en-US</dc:language>
  <cp:lastModifiedBy>CHUCK</cp:lastModifiedBy>
  <dcterms:modified xsi:type="dcterms:W3CDTF">2001-11-02T08:37:56Z</dcterms:modified>
  <cp:revision>5</cp:revision>
  <dc:subject/>
  <dc:title>No Slide Title</dc:title>
</cp:coreProperties>
</file>